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0E10-1594-4443-A3AC-C36F909DB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4C71-D473-4590-9640-4EC47F140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2EFA-8C63-442B-AAB7-4D774E81C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F7D2-BC2F-4139-B52A-609A0E870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D291-CDBC-492E-B140-F43AD37FA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47F7-40B8-4198-865E-B2D68D43D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DF92-7BDB-4244-8F96-46EBFD147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18EC-C91C-48EE-A92F-18D21C002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0F79-24C6-439F-9F70-4C206BD97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2093-7481-4006-A7C6-7BF412AC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BBA1-3FB4-4B82-ADE1-16D77359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28C3-8FDA-4E74-B9D6-0D44F42B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4D40A-ACFC-49F3-9F24-B7C7EE773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apsofworld.com/" TargetMode="External"/><Relationship Id="rId2" Type="http://schemas.openxmlformats.org/officeDocument/2006/relationships/hyperlink" Target="http://www.cia.gov/" TargetMode="External"/><Relationship Id="rId3" Type="http://schemas.openxmlformats.org/officeDocument/2006/relationships/hyperlink" Target="http://www.wsd1.com/" TargetMode="External"/><Relationship Id="rId4" Type="http://schemas.openxmlformats.org/officeDocument/2006/relationships/hyperlink" Target="http://www.factsville.com/" TargetMode="External"/><Relationship Id="rId5" Type="http://schemas.openxmlformats.org/officeDocument/2006/relationships/hyperlink" Target="http://www.dredcontral.com/" TargetMode="External"/><Relationship Id="rId6" Type="http://schemas.openxmlformats.org/officeDocument/2006/relationships/hyperlink" Target="http://www.umsl.edu/" TargetMode="Externa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66720" y="3047760"/>
            <a:ext cx="48769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bliography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mapsofworld.com</a:t>
            </a:r>
            <a:br>
              <a:rPr sz="3200"/>
            </a:b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cia.gov</a:t>
            </a:r>
            <a:br>
              <a:rPr sz="3200"/>
            </a:b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wsd1.com</a:t>
            </a:r>
            <a:br>
              <a:rPr sz="3200"/>
            </a:b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factsville.com</a:t>
            </a:r>
            <a:br>
              <a:rPr sz="32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ww.wikipedia.org</a:t>
            </a:r>
            <a:br>
              <a:rPr sz="32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ww.Rainforest.mon</a:t>
            </a:r>
            <a:br>
              <a:rPr sz="32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ww.putnam.k12.ga.u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-360" y="0"/>
            <a:ext cx="9372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ictu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dredcontral.c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umsl.ed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ww.2.winfield.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sledgehammergraphix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peacesymbal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3581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15:09:38Z</dcterms:created>
  <dc:creator>teacher</dc:creator>
  <dc:description/>
  <dc:language>en-US</dc:language>
  <cp:lastModifiedBy>teacher</cp:lastModifiedBy>
  <dcterms:modified xsi:type="dcterms:W3CDTF">2010-05-07T14:37:06Z</dcterms:modified>
  <cp:revision>4</cp:revision>
  <dc:subject/>
  <dc:title>Bibliography</dc:title>
</cp:coreProperties>
</file>